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92A-0F2F-4D4A-A443-931A2D55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DD1-F9E6-4B27-BD0F-85FB217A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73B-8EE8-4584-ADFE-05766ABD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22B-AD03-40AC-8A6F-AEF61217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B1A-637E-47E5-8915-47D854A0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5AA-D583-444A-8396-5704716B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FDF-C2A4-4682-A8CF-7D42C957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750-C525-4967-A769-FEE5857D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431-ED73-422B-B0F4-4447008B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4DB-6DBC-4662-B26A-39507BCC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1F7-8B97-45F4-927A-CCA70D18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C08-0445-44BB-9F76-EFD54811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B5C3-2771-4DF1-AE9C-350174B74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es/imgres?imgurl=http://www.daymontsl.com/images/joyeria.gif&amp;imgrefurl=http://www.daymontsl.com/joyeria.htm&amp;h=233&amp;w=267&amp;sz=11&amp;tbnid=j_59orUZ8Um1DM:&amp;tbnh=94&amp;tbnw=108&amp;hl=es&amp;start=1&amp;prev=/images%3Fq%3Djoyeria%26svnum%3D10%26hl%3Des%26lr%3D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416720" cy="4103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4508640"/>
            <a:ext cx="8207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En la fruteria se vende p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átanos, manzanas, naranjas y u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8C6-DFD2-4DC3-973C-05974A6FD0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6920" y="4076640"/>
            <a:ext cx="77774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>
                <a:solidFill>
                  <a:srgbClr val="000000"/>
                </a:solidFill>
                <a:latin typeface="Arial"/>
              </a:rPr>
              <a:t>En la libr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ía hay muchos libros, por ejemplo diccionarios, novelas y gúias turíst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6867720" cy="374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86A-4570-4C90-B6D6-C045EAB5DF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058160" cy="345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3933720"/>
            <a:ext cx="842472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Corte Ing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s es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or cadena de grandes almacenes de España, con una amplia variedad de articulos de moda, hogar, alimentacion, deportes y electro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3DD-B355-4F6E-8F66-75A9A0500E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0"/>
            <a:ext cx="896472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maris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pap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em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ñ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r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ce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endedo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pur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hog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gue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ave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-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itos de peluc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ddy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en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4D3-4DF3-4F1F-A567-FEE045C7C3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129440" cy="3745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9640" y="4149720"/>
            <a:ext cx="8604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>
                <a:solidFill>
                  <a:srgbClr val="000000"/>
                </a:solidFill>
                <a:latin typeface="Arial"/>
              </a:rPr>
              <a:t>En la peluqu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ía, es evidente, ¿no? Se corta el pelo, pero también se habla mucho- de sus vacaciones, del amor, ¡de tod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300-D49E-4DC3-A5D1-59B73D5136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5333760" cy="316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4221000"/>
            <a:ext cx="784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En la carni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a se vende cerdo, carne de vaca, hamburguesas y todos tipos de car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943-43F1-41DB-92C6-58AE2C1C96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418140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572000" cy="34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3933720"/>
            <a:ext cx="828036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>
                <a:solidFill>
                  <a:srgbClr val="000000"/>
                </a:solidFill>
                <a:latin typeface="Arial"/>
              </a:rPr>
              <a:t>En la panad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ía se vende todos tipos de pan. Normalmente también se encuentra bocadillos, patatas fritas y latas de refres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860-2B3C-46C7-9F55-15DA77EA0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400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4005360"/>
            <a:ext cx="813600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>
                <a:solidFill>
                  <a:srgbClr val="000000"/>
                </a:solidFill>
                <a:latin typeface="Arial"/>
              </a:rPr>
              <a:t>Se encuentra muchas pescad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ías en España, especialmente cerca del mar. Los mariscos son muy frescos- ¡es muy importante para preparar una paella deliciosa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DA5-2BFC-44B2-BE93-BE469EDEFD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266160" cy="3573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3789360"/>
            <a:ext cx="820908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300" spc="-1" strike="noStrike">
                <a:solidFill>
                  <a:srgbClr val="000000"/>
                </a:solidFill>
                <a:latin typeface="Arial"/>
              </a:rPr>
              <a:t>En una sociedad tradicionalmente ro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ántica, las floristas tienen un papel muy importante a desempeñ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028-2C4F-4169-BEDE-5501364D8E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761080" cy="323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04640"/>
            <a:ext cx="165564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3933720"/>
            <a:ext cx="842472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>
                <a:solidFill>
                  <a:srgbClr val="000000"/>
                </a:solidFill>
                <a:latin typeface="Arial"/>
              </a:rPr>
              <a:t>Las joy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ías españolas venden una gama de productos hechos de oro y de plata, por ejemplo pendientes, collares y pulse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3A3-8DCA-44E7-8DFF-F556E25043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09624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4149720"/>
            <a:ext cx="871380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n el estanco se vende todos tipos de tabaco, incluso los purros y los cigarillos. Ade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ás hay sellos nacionales y internacionales, encendedores y fósfo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2D4-2420-40C7-95B2-1492E7FB99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274160" cy="36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4005360"/>
            <a:ext cx="864072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>
                <a:solidFill>
                  <a:srgbClr val="000000"/>
                </a:solidFill>
                <a:latin typeface="Arial"/>
              </a:rPr>
              <a:t>Los supermercados, por ejemplo Supersol, venden todos tipos de producto para el hogar. Venden todos tipos de comida y bebida, incluso bebidas alco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ólicas, y productos para limpiar la ca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DFC-F9F5-4A19-8E55-CD42A0B258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048360" cy="3745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4221000"/>
            <a:ext cx="84963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n la tienda de regalos hay juguetes, caramelos, llaveros y, claro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sitos de peluch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cy-GB" sz="2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7D6-7287-4DCE-9411-052D249094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3:06:59Z</dcterms:created>
  <dc:creator>fullerc</dc:creator>
  <dc:description/>
  <dc:language>en-US</dc:language>
  <cp:lastModifiedBy>fullerc</cp:lastModifiedBy>
  <dcterms:modified xsi:type="dcterms:W3CDTF">2006-03-27T12:37:30Z</dcterms:modified>
  <cp:revision>10</cp:revision>
  <dc:subject/>
  <dc:title>Slide 1</dc:title>
</cp:coreProperties>
</file>